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5EA9-7A58-4A3E-A69B-F0E82E7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6769-DFE3-453D-A66C-A779F7D9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A47D-140A-4603-9147-A77AE26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4B14-1FEE-4E85-AC7F-01559AC0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5349-1A2B-43D3-81EF-D28298D3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1D6-A28F-46B0-8942-E84DD810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3346-68C9-42D9-A152-5A2EF232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85B-3328-4CCA-85DE-13153BA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84D3-62F7-4170-B738-10BB686A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9BE-A00C-4122-ACB7-723981FB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DC9-812E-4109-A981-CC1BE37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4C6B-DB04-4290-9782-7418350B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DBE-45AB-4D2E-A26A-9377422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032C-6E71-45A1-845A-55768E1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9F54-2C15-4A98-8BCA-6FAEDAF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4616-ECDE-41B4-A9DA-708926A6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436392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6EB-EC52-4590-997D-2D8AE886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2A75-2314-4130-9FF4-2F89AED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6479-F62B-4E2A-BF1E-BFE5CEA4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F524-F247-4E37-9719-1D8DE733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DF637-3C85-4B62-9DD5-A8D687DE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24F7-86FE-490D-81DC-6BA04D3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36392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3CF6-3A7C-4295-A06B-6372A86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6392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FE2B-CFF0-428E-8FE3-2823370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E62D3E-461D-49D3-9657-14A40950AC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A1D800-4300-4951-B0C2-1599C6B4F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0720" y="190080"/>
            <a:ext cx="418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FU</a:t>
            </a:r>
            <a:br>
              <a:rPr sz="4400"/>
            </a:br>
            <a:r>
              <a:rPr b="1" lang="es-ES" sz="1600" spc="-1" strike="noStrike">
                <a:solidFill>
                  <a:srgbClr val="e5e5ff"/>
                </a:solidFill>
                <a:latin typeface="Garamond"/>
              </a:rPr>
              <a:t>Climate Forecasting Unit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pport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603360" y="249228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Gabriela Taraban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500280"/>
            <a:ext cx="43214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I have worked in the private sector for many years. I was always a dedicated part off support staff in different companies and different roles such as EA, Team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assistant and Office manager.  I enjoy helping people to do their daily job that is why I dedicate my career in the support staff departments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Arial"/>
              </a:rPr>
              <a:t>At IC3 I am a secretary to the CFU department and focus on the SPECS project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51577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OTH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enjoy being in the nature, reading and travell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150" t="4854" r="0" b="0"/>
          <a:stretch/>
        </p:blipFill>
        <p:spPr>
          <a:xfrm>
            <a:off x="826920" y="401760"/>
            <a:ext cx="2089440" cy="187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14:00Z</dcterms:created>
  <dc:creator>Xavi</dc:creator>
  <dc:description/>
  <dc:language>en-US</dc:language>
  <cp:lastModifiedBy>mdavis</cp:lastModifiedBy>
  <dcterms:modified xsi:type="dcterms:W3CDTF">2013-03-05T14:55:37Z</dcterms:modified>
  <cp:revision>3</cp:revision>
  <dc:subject/>
  <dc:title>Unit/Lab/Admin</dc:title>
</cp:coreProperties>
</file>